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929E-A33C-4BB9-9161-AE854AB68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5A8B-1614-4FA7-A628-F6482A3C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0034DA-F05C-4262-8404-87748AB0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54E4B2-29DD-48E0-943C-091B7D9B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C68ECD-6057-4002-923F-36020AC8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77E00B-5CE3-44D1-A4AD-23854138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879D76-D1F6-45B0-9031-378443F4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1C2E1E-AA9E-4072-B2CE-149C90B6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27EB25-9592-4B85-BCBE-E7070218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CC16E9-D39E-4D1D-AD05-F0E2BA02F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FDB389-6A79-475E-9C0D-560CC0EC6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7DBFA1-DC74-4EB5-AE86-C522329E9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4963-2B7A-44C3-9BFA-AC36E2B66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9CD528-91A8-4BD5-884C-EA9636A0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2DD20A-635B-4BF0-9656-B4BC95C9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C691DC-A7FF-4DE0-9386-72668843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A96CAD-B474-4AFE-B7F7-C6E61849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C97B52-A174-4BF0-A602-CB17F057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28670B-8111-42EC-B7D1-DC3D832B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DF2A47-6F78-4959-8957-4704327D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6EED10-1762-455B-A3CB-518388E9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90B140-5933-48C4-8E22-91087456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13D2DB-1C26-4910-A95C-6698D4CE2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A291-9A3E-4A8A-A025-14F47F7F8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B23F9E-A82D-4005-B8D3-0D3286C13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55DC193-0CAC-4A52-8408-8AFE8E93D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AF06059-3D97-447D-A4F3-9C8DBBCC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62FE713-84B1-4903-B1F8-0E89C67B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20CA75A-354E-4647-B0AC-BF9F59C4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98120BE-EC58-4E73-85D9-D8398DD1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6A47690-7367-4051-BE95-FDFD1898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5CDDCEF-76BD-4018-8305-43D4A831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906A1E6-E5CC-4713-ACAA-C209B31E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A28EA99-5C7E-449D-B34F-3B1BA66C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EB84-62D9-4AD8-9410-F6D72A7A3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D064D12-1D55-4115-8AC0-7078CFB6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C7AE24D-F1D6-49F1-9DDC-255729929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ED5DC56-8930-46B8-BE17-6D76CC3F0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8C73-91EC-43B9-B70F-1011555B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BC7E-40AA-4B82-B480-837AF8B3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92C7-B1C2-49C1-8A0F-9D498C54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85EB-9864-41D0-98DE-EDA624F7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CB71-20B7-48ED-8590-CE06CEF8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95A0-59F2-43FA-B92D-F8BFE3B9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C054-4ED3-4376-9F42-FB372E14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0772-47B8-4E06-AAF2-B0739342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2530-D1CD-4485-B111-3C2DE6C8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1ADE-AD86-4211-AB39-E61ECE69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AE59-11DB-401C-951C-D28C98F7F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1B43-BB6C-4C83-8CA1-94AC3B2D6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C7AF8-B9D7-4038-8496-53BE504FD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BFDAC-BB07-4B10-921E-D504BC43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D90EA-DE89-43FA-8CF6-5D5AA970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E6950-9529-4C70-AC1D-5755C7F7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F793C-78DE-421B-BABB-6944088B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0C0B-A5B0-40CE-8162-17D78472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4939A-AC14-4BD9-86B9-AF9A2F37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3D0EC-CBE1-4E82-A5BB-61BE4B3B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55B23-BA2C-4E1E-B1C5-C167D1FF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DB277-DAD9-41A3-B107-D40ACB62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9085A-44BF-4574-91DB-880E51C8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1860C-D2E4-4CAB-966E-454F580ED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029A3-4DF9-47F5-A4C7-B4A7A6317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674CF-C0A3-4C0C-A93B-223FF7654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9AE3E-9742-4070-A283-BE2981C3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484FF-7828-4B0D-A9CE-AD08D903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7C9E-5E4C-408C-B231-71E412F0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96022-0434-478D-945C-5CACBD2F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1106B-2041-48F4-BC6E-12CF7F4D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8489A-824F-4CA1-AFF4-181067F3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B4570-9C43-47BA-989D-AE14E32D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219AF-0394-4804-B186-8AAD8556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30CAA-1AE6-4C63-826E-D6688590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80B3D-949B-4E42-8D5D-B7652462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4C8F8-75C7-434D-886B-5B5933104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5FBE5-429A-43AD-BD77-768FAE290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33145-205A-4AB4-BE65-85AEE835A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BF68-6D7D-4C89-B49F-1F5A8579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539A6-62BC-4ACB-9014-D1C963D1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AC526-7276-4DC6-9457-A5BF4ECC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CCCD9-4583-41A7-A582-A8FD99E4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104E2-3734-47E9-8AEB-79339DB2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1960E-4D1A-48C3-8EBD-5709D081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C3283-AE78-4527-BB40-ACFDD941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58C18-AF38-4D4D-BFDF-7018C231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46C79-EBAE-4BA0-8184-7E16A60F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92A82-FFBB-41DD-B286-E0E0C552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88C26-ED24-4F29-B693-DE1A3789E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2099-2464-4F56-A0E2-3E81F77A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0D8A5-84A3-4BC9-80E6-00090D914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51B89-EFE1-48A8-8BCD-EB0F1B674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711F0-7BD6-4E56-8F8F-799E4343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C8F68-6004-4D8B-B69B-DF7EA04D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76C88-6D6A-482A-8D1E-6E2A5E84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4C43D-56DD-4036-AC73-3EAE10A3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2AEC7-CBAE-4E2D-BB06-E5059AFA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A9824-7B98-4FD8-830D-7D266274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EA1F7-550F-439A-9332-65CF05A2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B5615-2730-4ED2-998E-80B9A98C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8D1C-EE21-42B2-B9E5-C0914AE5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0BE21-5FCB-4510-9146-DFE524C4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D6FA7-B086-4D2B-899F-AB7DB6C0B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9E6C5-E754-40D3-9001-A5F9E0571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B378D-297D-4115-A392-3875D5B4B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1E4AE-7A63-43CC-9B20-EE0D3EFE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E8F95-991E-40E8-9F6F-FE7946F9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AE071-F08A-44BB-9D9F-629EA451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73308-F863-43F3-8AF0-34227E5F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719C8-5991-4534-9890-6105ED09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6B192-1F34-43F5-B932-D6E62783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B688-3BAF-490A-8064-A1AB1CE7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5BEC6-202A-4FBE-918E-D42434AB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EB6B2-7D82-4C07-B2D2-29E253B5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9B61D-0AE6-4ADA-B8A9-2503C791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98EAF-BC34-499D-ADD3-3578642C2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7CBB6-EE6B-40A2-BECA-97B9B882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33C56-D131-4B12-A0D6-4C52793E4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E5D42-BB1D-4CA9-89B7-C08B5667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D9721-1603-43A2-9C1A-9936DC86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0052E-7E79-4F0D-94B4-CC357D54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0DA08-1B49-469B-BA27-2BC7730F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5A75-2140-46C1-9B89-DF52D354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6AE3A-48EB-4747-AC41-B488D8DC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0FE55-9300-4E80-B462-B01B802E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A0189-C394-479F-AAFF-4E4C74D0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FDFAD-4240-40EC-BCD0-CA483DFC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D0F5C-1EE6-438E-9EBE-13AB5307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7923F-2475-4A26-B94B-DF0163682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F3387-4E57-4EFD-817A-3EE54A766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80938C-48B6-47FD-B335-79BBA961F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C904D6-CA70-4E43-A8CD-F7AB1724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541418-4892-4328-A7ED-E1792AC8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81C2-069E-40B7-B4CF-2BDEDAC9C76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35BF-3D43-4108-9B85-CAB0BAB92DD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31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B959-071F-48CE-A593-8E072840D6E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dt" idx="3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3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840B-BACC-4383-BDF3-45C5282BDD4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12FA-677F-401A-AE4F-E27FBAFEE43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1690-2F5E-4B07-85C3-1C766D09439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C15C-E2F2-472D-ADCE-F40FAAF8D8C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C5346-C3DA-4631-9D8D-98C9F33F30F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02BB-36E8-44B2-9150-A4DDDA1419D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F47C-436C-484B-AD42-7DED7172CE2B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B0A8-940A-48E6-9D0D-9B6785867C4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A TIMELINE OF EVENT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FROM 1936-1941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d16349"/>
                </a:solidFill>
                <a:latin typeface="Georgia"/>
              </a:rPr>
              <a:t>The Road to WW II:</a:t>
            </a:r>
            <a:br>
              <a:rPr sz="4200"/>
            </a:br>
            <a:r>
              <a:rPr b="1" lang="en-US" sz="4200" spc="-1" strike="noStrike">
                <a:solidFill>
                  <a:srgbClr val="d16349"/>
                </a:solidFill>
                <a:latin typeface="Georgia"/>
              </a:rPr>
              <a:t>1936-1941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060"/>
                </a:solidFill>
                <a:latin typeface="Georgia"/>
              </a:rPr>
              <a:t>1939-1940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01320" y="1527120"/>
            <a:ext cx="85042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October 1939: Poland surrende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October 1929: USSR invades Estoni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November 1939-March 1940: Winter War—USSR v. Finla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November 1939: US Neutrality Acts—Br &amp; Fr may buy arms but only cash basi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October 1939-April1940: </a:t>
            </a:r>
            <a:r>
              <a:rPr b="0" i="1" lang="en-US" sz="2700" spc="-1" strike="noStrike">
                <a:solidFill>
                  <a:srgbClr val="111618"/>
                </a:solidFill>
                <a:latin typeface="Georgia"/>
              </a:rPr>
              <a:t>Sitzkrieg</a:t>
            </a: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 or Phony Wa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April : Germany attacks Denmark &amp; Norwa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May: Germany attacks Low Countries &amp; Fran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May: Winston Churchill becomes PM of Great Britai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060"/>
                </a:solidFill>
                <a:latin typeface="Georgia"/>
              </a:rPr>
              <a:t>1940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01320" y="1527120"/>
            <a:ext cx="85042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June: Italy declares war on Br &amp; F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June: France fall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June: Soviet led coups in Baltic Stat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July: Vichy Government established in Fran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July: US begins earliest stage of planning for mobiliz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July: Battle of Britain begi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September: USA begins 1</a:t>
            </a:r>
            <a:r>
              <a:rPr b="0" lang="en-US" sz="2700" spc="-1" strike="noStrike" baseline="30000">
                <a:solidFill>
                  <a:srgbClr val="111618"/>
                </a:solidFill>
                <a:latin typeface="Georgia"/>
              </a:rPr>
              <a:t>st</a:t>
            </a: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 peacetime conscription in its histor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September: Japan occupies Indochin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060"/>
                </a:solidFill>
                <a:latin typeface="Georgia"/>
              </a:rPr>
              <a:t>1940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01320" y="1527120"/>
            <a:ext cx="85042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September: Tripartite Pact—Germany, Italy &amp; Japan pledge mutual assistance; Axis emerges as term (Hungary, Romania, Slovak Republic will later joi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October: Germany postpones any invasion of Britain (Operation Sealio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October: Italy invades Gree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November: Franklin D. Roosevelt wins unprecedented 3</a:t>
            </a:r>
            <a:r>
              <a:rPr b="0" lang="en-US" sz="2700" spc="-1" strike="noStrike" baseline="30000">
                <a:solidFill>
                  <a:srgbClr val="111618"/>
                </a:solidFill>
                <a:latin typeface="Georgia"/>
              </a:rPr>
              <a:t>rd</a:t>
            </a: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 term as US Presiden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December: Italy request German military assistance vs. Gree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060"/>
                </a:solidFill>
                <a:latin typeface="Georgia"/>
              </a:rPr>
              <a:t>1941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01320" y="1527120"/>
            <a:ext cx="85042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February: German forces arrive in North Africa to aid Italy (June 1940)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March: US begins Lend-Lease (begins US supply of material to Br, Fr, China, &amp; USSR; ends pretext of US neutrality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April: German begins invasion of Greece &amp; Yugoslavi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April: US volunteer pilots arrive in China to fight Japanese (Flying Tigers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April: US begins sea patrols in Atlantic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060"/>
                </a:solidFill>
                <a:latin typeface="Georgia"/>
              </a:rPr>
              <a:t>1941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01320" y="1527120"/>
            <a:ext cx="85042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22 June 1941: Operation Barbarossa—German invasion of USS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June: US freezes all German &amp; Italian asse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July: USSR begins scorched earth polic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July: Yugoslavia dissolved into component parts by Axis invade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July: US seizes all Japanese assets in US (response to Indochina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July: Japan occupies rest of Indochin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August: US announces oil embargo of Japan (US Supplied more than 80% of Japan’s oil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060"/>
                </a:solidFill>
                <a:latin typeface="Georgia"/>
              </a:rPr>
              <a:t>1941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01320" y="1527120"/>
            <a:ext cx="85042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August: Atlantic Charter signed by Churchill &amp; Roosevelt (vision of post-war world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September: US Navy authorized to shoot on sight if convoy or ship threatened by U-Boats &amp; raide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October: Lend-Lease extended to USSR (where Leningrad &amp; Moscow under sieg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26 November: Hull Note demands Japanese troops withdraw from Indochina (Cordell Hull, US Sec of Stat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060"/>
                </a:solidFill>
                <a:latin typeface="Georgia"/>
              </a:rPr>
              <a:t>1941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301320" y="1527120"/>
            <a:ext cx="85042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August: Atlantic Charter signed by Churchill &amp; Roosevelt (vision of post-war world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September: US Navy authorized to shoot on sight if convoy or ship threatened by U-Boats &amp; raide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October: Lend-Lease extended to USSR (where Leningrad &amp; Moscow under sieg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26 November: Hull Note demands Japanese troops withdraw from Indochina (Cordell Hull, US Sec of Stat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060"/>
                </a:solidFill>
                <a:latin typeface="Georgia"/>
              </a:rPr>
              <a:t>1941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301320" y="1527120"/>
            <a:ext cx="85042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26 November: Japanese fleet heads for Hawai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2 December: Tojo (military PM of Japan) reject US peace feele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5 December: Germans ends attack on Moscow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7 December: Japan attacks Pearl Harbo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7 December: Japan attacks US in Guam &amp; Wake Island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7 December: Japan invades Thailand &amp; British Malay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060"/>
                </a:solidFill>
                <a:latin typeface="Georgia"/>
              </a:rPr>
              <a:t>1941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301320" y="1527120"/>
            <a:ext cx="85042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8 December: US declares war on Japan (Br, NZ &amp; Netherlands also declare war on Japa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9 December: China &amp; Australia declare war on Japa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11 December: Germany &amp; Italy declare war on US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11 December: US reciprocates &amp; declares war on Germany &amp; Ital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World War II not fully engage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060"/>
                </a:solidFill>
                <a:latin typeface="Georgia"/>
              </a:rPr>
              <a:t>1936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01320" y="1527120"/>
            <a:ext cx="850428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February: ratification of Franco-Soviet Pac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March: Hitler remilitarizes Rhinela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March: Italy wins last battle in war w/Ethiopi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May: Italy annexes Ethiopia &amp; merges it w/Eritrea and Somaliland to form Italian East Afric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July: Spanish Civil War begins—Hitler &amp; Mussolini send troops &amp; aircraft to assistance Generalissimo Francisco Franco and his Nationalis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October: Rome-Berlin Axi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Anti-Comintern Pact: Germany &amp; Japan pledge to fight international communis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060"/>
                </a:solidFill>
                <a:latin typeface="Georgia"/>
              </a:rPr>
              <a:t>1937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301320" y="1527120"/>
            <a:ext cx="850428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January: Japan withdraws from Washington Conference (which limited size of the navy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June: Stalin begins purge of Red Arm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July: Marco Polo Bridge Incident begins second Sino-Japanese Wa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November: Hossbach Memorandum—foreign policy goal to be </a:t>
            </a:r>
            <a:r>
              <a:rPr b="0" i="1" lang="en-US" sz="2700" spc="-1" strike="noStrike">
                <a:solidFill>
                  <a:srgbClr val="111618"/>
                </a:solidFill>
                <a:latin typeface="Georgia"/>
              </a:rPr>
              <a:t>Lebensraum</a:t>
            </a: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 &amp; the need to seize Austria &amp; Czechoslovakia to military &amp; foreign policy leade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November: Italy joins Anti-Comintern Pac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November: Rape of Nank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060"/>
                </a:solidFill>
                <a:latin typeface="Georgia"/>
              </a:rPr>
              <a:t>1938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01320" y="1526760"/>
            <a:ext cx="850428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March: </a:t>
            </a:r>
            <a:r>
              <a:rPr b="0" i="1" lang="en-US" sz="2700" spc="-1" strike="noStrike">
                <a:solidFill>
                  <a:srgbClr val="111618"/>
                </a:solidFill>
                <a:latin typeface="Georgia"/>
              </a:rPr>
              <a:t>Anschluss</a:t>
            </a: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 w/Austria—</a:t>
            </a:r>
            <a:r>
              <a:rPr b="0" i="1" lang="en-US" sz="2700" spc="-1" strike="noStrike">
                <a:solidFill>
                  <a:srgbClr val="111618"/>
                </a:solidFill>
                <a:latin typeface="Georgia"/>
              </a:rPr>
              <a:t>Gau Ostmark</a:t>
            </a: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 (Greater Germany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March: Hitler begins advocating equality for Germans in Czechoslovakia’s Sudetenland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May: May Crisis leads to Cz, Br, Fr &amp; USSR promise to resist a German attack on Czechoslovaki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May: Hitler issues Case Green a directive to occupy Czechslovaki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September: Munich Agreement &amp; annexation of Sudetenland into German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060"/>
                </a:solidFill>
                <a:latin typeface="Georgia"/>
              </a:rPr>
              <a:t>1939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01320" y="1526760"/>
            <a:ext cx="850428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January: Neville Chamberlain recognizes Franco govt. in Spain (largely criticized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January: Hitler Speech–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clares if Jews want war they will get it &amp; be annihilate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rch: Czech president accepts making a region a protectorate of Germany; Slovakia &amp; Ruthenia declares independence of Czechoslovaki (Rump Stat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rch: Germany occupies Czechoslovaki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rch: France declares intent to increase defense spend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060"/>
                </a:solidFill>
                <a:latin typeface="Georgia"/>
              </a:rPr>
              <a:t>1939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01320" y="1526760"/>
            <a:ext cx="850428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March: Soviets suggests collective action by USSR, Br, Fr, Poland &amp; Romania aimed at German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March: Britain gives minimal interest to Soviet sugges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March: Hitler reiterates return of Danzig &amp; Polisg Corridor to German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March: Memel returned to &amp; occupied by Germany (Lithuania); Poland cautions Germany on similar action w/Danzi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March: British decide to side work w/Poland instead of multinational approach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060"/>
                </a:solidFill>
                <a:latin typeface="Georgia"/>
              </a:rPr>
              <a:t>1939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01320" y="1526760"/>
            <a:ext cx="850428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March: Britain &amp; France declare intention to support by Pola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April: Franco wins Spanish Civil Wa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April: Hitler issues Case White—planned invasion of Pola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April: USSR proposes 10 year alliance w/Br &amp; F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April: Hitler denounces the non-aggression pact w/Poland (1934) &amp; Anglo-German Naval Agreement, demands return of Danzig, and declares Anglo-Polish Pact directed at German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060"/>
                </a:solidFill>
                <a:latin typeface="Georgia"/>
              </a:rPr>
              <a:t>1939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01320" y="1526760"/>
            <a:ext cx="850428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May: Germany offers Scandinavian countries non-aggression pacts, only Denmark accep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May-Sept: Japan &amp; Soviet border clashes go poorly for Japan, looks south &amp; east—US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May: Pact of Steel between Italy &amp; Germany support in event of wa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July: USA withdraws from a commercial treaty w/Japa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August: Poland rejects Soviet request to send troops into Pola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060"/>
                </a:solidFill>
                <a:latin typeface="Georgia"/>
              </a:rPr>
              <a:t>1939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01320" y="1527120"/>
            <a:ext cx="85042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August: Germany &amp; USSR sign trade agreemen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23 August: Nazi-Soviet non-Aggression Pac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25 August: British-Polish common defense pact signed; Mussolini informs Hitler that Italy not ready for war ye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26 August: Hitler postpones invasion of Poland until 1 Septemb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27 August: Br &amp; Fr try to persuade Poland to negotiate w/Germany—refus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1 September: Germany invades Pola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3 September: Br &amp; Fr declare war on German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11:57:41Z</dcterms:created>
  <dc:creator>Russ</dc:creator>
  <dc:description/>
  <dc:language>en-US</dc:language>
  <cp:lastModifiedBy>Russ</cp:lastModifiedBy>
  <dcterms:modified xsi:type="dcterms:W3CDTF">2011-01-17T11:00:23Z</dcterms:modified>
  <cp:revision>39</cp:revision>
  <dc:subject/>
  <dc:title>The Road to WW II: 1936-1939</dc:title>
</cp:coreProperties>
</file>